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171D-174E-4A40-8546-207743BB3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9DD4-9809-40F4-BE3C-1E4F39B4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F6BA-E564-49C0-AD9E-3EB252C31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A6B4-467F-4C92-A506-C330E5BA9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0BB7-A491-4727-847D-DE81C794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349C-BDB6-4900-B8EC-C15EC2D2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C4A8-2964-475E-A244-CCED458E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50C5-5364-411F-B2F6-1876ECFD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9224-0740-4ECC-B9C7-05CC441E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F468-CFBC-4B98-AD1C-E01358FF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AAE3-99C7-443D-A48A-B7E1816E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6D00-54B3-4D1A-83C4-42A822E6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93BA-CF3C-4452-876E-6783FDF92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65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30 year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eden Gets Involv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C Power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and/Lithuania on dec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of the Bal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stav IV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w expansion into mainland Europe- Prussian 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s in the Battle of Lut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des gain substantial swathes of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ty of Westphal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 What’s the Big De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erence- w/all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plomacy previously bilat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vereig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us Toleration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RE lost- still in existence but w/limited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ndenburg (who?) g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 gains Alsace- root for lots of figh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eden also gains- Baltic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in- In significant dec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tch gain independence (took 80 YRS!!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.C. Church lost b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astating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ions Killed- “Plague Like” ¼ to 1/3 dead—some areas…high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as tend to be Germanic and Boh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lidation? Sort of—350 autonomous areas-&gt;about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owerment of local nobles and princes, intro&amp;exp. serf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benefitt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 mid 17C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(for future discussion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nde followed by the Sun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ugal returns as separat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l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itan Uprising and a whole lot mo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ine HRE-&gt; Itchings of Prussia and Brandenburg-&gt; A Power to 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sterdam- Economic Power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eden- Political Power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ssia - Emerging from Cha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World Colo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http://www.laurenhasten.com/Europe_1600.jpg"/>
          <p:cNvPicPr/>
          <p:nvPr/>
        </p:nvPicPr>
        <p:blipFill>
          <a:blip r:embed="rId1"/>
          <a:stretch/>
        </p:blipFill>
        <p:spPr>
          <a:xfrm>
            <a:off x="1981080" y="2438280"/>
            <a:ext cx="5156280" cy="41148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3213000" y="19051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1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http://shurms.files.wordpress.com/2011/01/holy_roman_empire_1648.png"/>
          <p:cNvPicPr/>
          <p:nvPr/>
        </p:nvPicPr>
        <p:blipFill>
          <a:blip r:embed="rId2"/>
          <a:stretch/>
        </p:blipFill>
        <p:spPr>
          <a:xfrm>
            <a:off x="84240" y="-182520"/>
            <a:ext cx="9253440" cy="70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yers (Everyo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 England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RE (Bohemia)--that’s where it 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sburgs- Catholics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holic League of German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stant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m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in/Portugal- United under Philip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enestration- Phas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46040" y="1195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RE Seven El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Catholic, Three Protestant (2 of whom were Calvinists) Peace of Augs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duke Ferdinand (Habsburg) as King of Bohemia (Habsburg’s gained Hungary and Bohemia in 16C) limits Protestan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aliation-&gt;Protestants toss out Catholic leaders from window-&gt;no one di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hemians name their own King (Frederi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http://cache.virtualtourist.com/4/3209237-Habsburg_Royal_Palace_Prague.jpg"/>
          <p:cNvPicPr/>
          <p:nvPr/>
        </p:nvPicPr>
        <p:blipFill>
          <a:blip r:embed="rId1"/>
          <a:stretch/>
        </p:blipFill>
        <p:spPr>
          <a:xfrm>
            <a:off x="6705720" y="-79200"/>
            <a:ext cx="2286000" cy="1707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http://www.ariatours.com/Websites/araitours/Images/misc%20Tour%20Pix/Prague_castle.jpg"/>
          <p:cNvPicPr/>
          <p:nvPr/>
        </p:nvPicPr>
        <p:blipFill>
          <a:blip r:embed="rId2"/>
          <a:stretch/>
        </p:blipFill>
        <p:spPr>
          <a:xfrm>
            <a:off x="84240" y="4952880"/>
            <a:ext cx="2925720" cy="1905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http://www.isap.org/2004/Workshop-Prague/defenestration.jpg"/>
          <p:cNvPicPr/>
          <p:nvPr/>
        </p:nvPicPr>
        <p:blipFill>
          <a:blip r:embed="rId3"/>
          <a:stretch/>
        </p:blipFill>
        <p:spPr>
          <a:xfrm>
            <a:off x="84240" y="31680"/>
            <a:ext cx="167004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national confl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rdinand gets Philip IV (Spain) help—remember their both Habsurgs and both ardent Catholic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lenstein- lapsed Protestant helps Ferdinand defeat Bohemians - White Mountain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stants Crush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ot very great Dane!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se II 1625-1629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m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istian 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seatic League in decline- focus is more south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tian IV takes the mantle for Protestan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s a territory w/in H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mark’s little help- a troop of English and Catholic France and Dutch provides some $$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holic France helping Protestant Danes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lenstein defeats Christian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land lost to HRE and Catholic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wede Victory! Phase III 1630-16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stav II- military geniu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tic Power, expand power and defend Protestan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and/Lithuania falling apart- power vacu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 helped defray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ede’s gain-&gt;Gustav II dies (Battle of Lutzen, near Leipzi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Treaty-&gt;Protestant gains, Swedish g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ly its France’s turn (1635-1648)- Phase 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 allied w/Dutch and Swe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tch??? New comer on the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edes and French gain more 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becomes more political less relig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es switch sides, fight and lose to Swe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eror Dies, Richelieu Dies and so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nal Mazarin (France) begins movement towards Pe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Hey where’s England in all this stuff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7:52:34Z</dcterms:created>
  <dc:creator>Steve Balazs</dc:creator>
  <dc:description/>
  <dc:language>en-US</dc:language>
  <cp:lastModifiedBy>Local User</cp:lastModifiedBy>
  <dcterms:modified xsi:type="dcterms:W3CDTF">2012-10-15T11:29:00Z</dcterms:modified>
  <cp:revision>16</cp:revision>
  <dc:subject/>
  <dc:title>The 30 year War</dc:title>
</cp:coreProperties>
</file>